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A0C2-1DF8-4DC4-8C6F-711AB803D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Lea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ble to get teacher buy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e district guidelines (doesn’t have to lik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es concerns in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 have a perception right off the bat, then that needs to be brought to my attention, especially if it is just seen as a referral mechanism or extra paper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Lea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the ability to clarify a problem and facilitate a discussion in solving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Lea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s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able about the district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le to facilitate a discu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chools do not have a system, talk with other support people to find out what other schools are doing to help guide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if everyone has had training and/or understands how PLCs are suppose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not a document that you will just go through from beginning to end.  You will be skipping around with the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hools may not have something, but is functioning extremely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5D3-6F28-4263-B1B4-DD468655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FD2-2679-4A21-9BC1-888779AD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121-4D8D-4698-9B65-1755A486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C25F-F17F-4F40-B5AF-04493905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9854-5A15-45FB-9454-7970C6BC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5829-6428-42B8-959D-0B44DC75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C0FD-A391-48CF-8BA2-3F8C64A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0A72-4B04-4EE5-AF6E-E50EC683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6D67-EBC6-4B63-AEEB-30F3F8D8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A45-4466-4BC1-AAE5-ABDF226B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4AFF-8F38-4F04-9EAC-DB9651B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22E-8A2B-4F0C-B1CB-7888CF83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8AD6-2103-4BD7-AA52-07B1138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7728-566D-47DB-BED5-29216EC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D884-F3AB-435B-91D1-71350C84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D252-4C28-4E32-9AA2-1FDE6749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2A65-0A95-4005-944E-8E13174D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4B5-4AC5-4B58-A8B0-3EE0830A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045-633E-4620-B36B-7C1E3A65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67E-E2AA-4E4F-AEA7-8A892D7A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D5D-F5BB-4F0F-9935-123C3663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046-9323-49BE-B2F7-060F9939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0D9-52B6-462D-BDA1-F193FFE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467-8786-43EC-852E-1B2270E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736F-B306-4FBE-AEE5-97C96CA45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9C1A-C495-4DBB-8E1E-A79984499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assume the leaders are th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not only the people who are assigned to manage, but also those who appear to be l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for the names is so that I can check to see if they attended any of the past summe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ol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your 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your perception based off the conversations, statements, how you see the process flow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take more than your first few visits to get a true perce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eam fulfilling its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for the names is so that I can check to see if they attended any of the past summe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I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uses effective problem solving procedur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Team Protoc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the student’s area of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the data on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the interven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ames is so that I can check to see if they attended any of the past summer training.  Positions help to determine if they have the appropriate people on their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es for 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h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ing Positiv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inette Thomas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Virgi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of presentation came for NCD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eam meetings.  It helps to have a facilitator, note taker, and time keeper.  Remind all participants at the beginning of the meeting of the members’ roles/responsibilities, meeting structure, process, and purpose/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 one team member to notify/remind members of their responsibilities after each meeting and before the next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selection process for team membership.  Team members should be chosen based on interest, knowledge, and commitment, not just because it’s “their tur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dequate time for meetings and coverage for teachers attending meetings if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as well as compensation or rewards for team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in team building exercises.  Go on a retreat.  Get to know each other.  Do some fun things together.  Build relationships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self awareness and your contribution to the climate and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all teachers at the beginning of the year about the team, how the team operates and the referral/intervention process.  An in-service that walks teachers through the process can be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all team members so that everyone is involved and no one person domin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limate new teachers to the role and function of the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 Good teams need good LEADERSHIP and supportive ADMINIST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ing and respectful relationships with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ood active listening skills that convey genuine interest and 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the validity of a teacher’s concerns and feelings (e.g. frustr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eachers for specific ex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focused on the primary purpose for the meeting.  (Refocusing is often necessary when a team member begins to spend time on extraneous or tangential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some teachers will need to be taught how to implement a strategy/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willing to have someone model how to implement an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will need support, encouragement, and reinforcement during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your own school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olbox of Interven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Have each teacher submit interventions that they have used and found to be successful.  Creating this toolbox encourages teacher ownership, involvement, and supportive consultat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me across as a judg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as a support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and check in with the teacher once the intervention has beg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teacher of his/her choices and the possible consequences when considering approaches/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shoot - Ask “What do you anticipate might get in the way of carrying out this intervention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etired teachers or other personnel to assist in implementing strategies when the teacher is uncomfortable, resistant, or doesn’t seem able to implement an 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for dealing with angry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calm, take some deep bre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ome emotional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rsonalize in your own mind and repeat statements such as:  “This is not personal,” “The yelling is not about 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ve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ppropriate and effective comebacks ahead of time such as:  “Take your time and tell me all of your concerns.” “I want to hear what you have to sa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good active listening skills that convey genuine interest and 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your voice and choice of words so that neither is threatening nor intimid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a high degree of professional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the validity of the concerns and feelings (e.g. anger, frustratio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me “wait time” to cool off - may need to ask the person to return to talk with you once s/he or both of you have had time to cool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ware that the parent may be misinformed so find out what s/he knows or thinks is true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everyone’s goal is to do what’s best for the child and remind the parent/teacher that you ALL have that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me (make lemonade from lem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some empathy, but be authen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he teacher/parent by finding something that you both agree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e negative emotions with a sense of caring (“I can see that this matter is important to you.” “I’m know that you are concerned about 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prepared to share correct information or clar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focused on your primary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collect addition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willing to admit you made a mistake or to apologize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at TIMING is cri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responding to the dueling challenge or the “tug of wa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ly address th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ectful, honest, and authen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rules and guidelines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how WE can figure this out or address the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humor when appropri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view t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for in-house transfer of PE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for teachers to be aware of exist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ention Block -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nag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 Case Manager Descri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e names is so that I can check to see if they attended any of the past summer training.  Positions help give a better picture of the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LCs have to do with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look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n effective leader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er I &amp; Tier I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and Paper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in this information from your conversations, statements, and how you see the process flow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attend meetings, just ask to see the folder/paper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d maintain rapport with the people in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sense of trust and 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expec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proces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you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terven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ful for gathering information and clarifying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- Gives the speaker an opportunity to provide a wide range of possible responses.  Example:  What concern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- Typically result in specific information, focus and limit responses.  Example:  How often do you m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provide information or give advice within a query format.  Example:  What are things we have not looked at with this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al Ques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obtain general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facilitate discussion of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bring out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to bring ou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open questions and then use more closed questions for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oo much control to person as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the focus off of respo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firing may feel like gr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ly may be viewed as r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sed in an insensitive manner can destroy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or Use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Person(SP): Did you try what we discus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: 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:  Did i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:  Not 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: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when using WH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olicit reasons and can put speaker on the defensive or result in bla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ults tend to respond by intellectualizing and rationali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a needs assessment of th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provide you with guidance on things to look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go into your school and dictate that they have to do everything the way it is listed in the gu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9:41:31Z</dcterms:created>
  <dc:creator>Chatham County Schools</dc:creator>
  <dc:description/>
  <dc:language>en-US</dc:language>
  <cp:lastModifiedBy>Chatham County Schools</cp:lastModifiedBy>
  <dcterms:modified xsi:type="dcterms:W3CDTF">2010-06-10T15:35:45Z</dcterms:modified>
  <cp:revision>11</cp:revision>
  <dc:subject/>
  <dc:title>Implementation Guide</dc:title>
</cp:coreProperties>
</file>